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90560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0200" y="912960"/>
            <a:ext cx="5004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 Peopling of the World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rehistory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5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16280"/>
            <a:ext cx="66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migrate throughout much of the world and begin to develop tools, art, agriculture and c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81280" y="1690560"/>
            <a:ext cx="37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Dawn of Modern Hum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80920" y="2174760"/>
            <a:ext cx="5223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-Magnons Em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40,000 years ago Cro-Magnons ap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ly identical to modern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ed in groups; better hunters t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kill in spoken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ed from North Africa to Europe and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grew quickly, replaced Neanderth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159876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w Findings Add to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sils, Tools, and Cave Pain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ossil discovery places hominids in Africa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7 million 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 tools suggest toolmaking began earli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previously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 flute suggests Neanderthals might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e drawings of people, animals give clu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s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0160" y="39751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velopment of agriculture causes an increase in population and the growth of a settled way of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70160" y="2397240"/>
            <a:ext cx="6010200" cy="1581480"/>
            <a:chOff x="1370160" y="2397240"/>
            <a:chExt cx="6010200" cy="1581480"/>
          </a:xfrm>
        </p:grpSpPr>
        <p:sp>
          <p:nvSpPr>
            <p:cNvPr id="151" name="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0160" y="2787480"/>
              <a:ext cx="601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Humans Try to Control Natur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74080" y="182736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arly Advances in Technology and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69080" y="885960"/>
            <a:ext cx="56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Humans Try to Control N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3360" y="240336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Needed to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olithic (Old Stone Age) humans wer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m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d in search of fo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ed animals, collected plant foods—wer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u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athe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-Magnons had more than 100 specialized tool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e needles to s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9480" y="4451400"/>
            <a:ext cx="5734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stic Expressions in the Paleolithic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dern humans created 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e paintings, animal sculptures, rock engrav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ain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of sea shells, lion teeth, bear c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shed beads from mammoth tu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2640" y="15987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Beginnings of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olithic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olithic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agricultural revolu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about 10,000 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dic women scattered seeds, t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crops gr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from food-gathering to food-production g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427500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of the Agricultural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temperatures probably a key r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growing season, drier land for wi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supply of food led to population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774800" y="21747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Farming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lash-and-burn far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clear land by cut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urning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s moved to new area after year or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1640" y="1690560"/>
            <a:ext cx="38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Beginnings of Agri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4800" y="3444840"/>
            <a:ext cx="6100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ation of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omest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taming wild animals to ensur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source of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ers and farmers tamed horses, dogs, goa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4800" y="499428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e in Ja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in northeastern Iraq where people farm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000 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 grasses, goats, pigs, sheep, horses th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Zagros Mou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2640" y="159876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illages Grow and Pro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73360" y="2174760"/>
            <a:ext cx="5445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ming Develops in Many P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ing in Africa, China, Mexico and Cent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, Pe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crops developed in differe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73360" y="3449520"/>
            <a:ext cx="5673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 Huy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ing thrived here 8,000 years ago; locat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of 5,000 to 6,000 grew crops, rai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p and c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pottery, wove baskets, traded valu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8, remains of village found; wall painting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 sh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371240" y="2486160"/>
            <a:ext cx="3198240" cy="1078200"/>
            <a:chOff x="1371240" y="2486160"/>
            <a:chExt cx="3198240" cy="1078200"/>
          </a:xfrm>
        </p:grpSpPr>
        <p:sp>
          <p:nvSpPr>
            <p:cNvPr id="198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1240" y="2784600"/>
              <a:ext cx="3198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Civilizatio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370160" y="3819600"/>
            <a:ext cx="62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ous farming villages, food surpluses, and new technology lead to the rise of civil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960" y="341784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b6e19"/>
                </a:solidFill>
                <a:latin typeface="Arial"/>
              </a:rPr>
              <a:t>CASE STUD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r in 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0120" y="182736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illages Grow into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70520" y="885960"/>
            <a:ext cx="21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Civi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3360" y="2403360"/>
            <a:ext cx="578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e Cause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ing success leads to large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7280" y="1297080"/>
            <a:ext cx="32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 in 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3360" y="3102120"/>
            <a:ext cx="53942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people build irrigation system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food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surpluses free some people to devel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ftspeople make cloth, objects; traders prof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exchange of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ion of wheel and sail enable trader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longer d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360" y="571824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lasses develop; religion becomes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73000" y="159876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 Civilization 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2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773360" y="2174760"/>
            <a:ext cx="55782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in Mesopotamia, now part of modern Ir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firs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iviliz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a complex cul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ed wo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80200" y="912960"/>
            <a:ext cx="5004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 Peopling of the World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rehistory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5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6240" y="2503440"/>
            <a:ext cx="5375160" cy="1486440"/>
            <a:chOff x="2046240" y="2503440"/>
            <a:chExt cx="5375160" cy="1486440"/>
          </a:xfrm>
        </p:grpSpPr>
        <p:sp>
          <p:nvSpPr>
            <p:cNvPr id="51" name="">
              <a:hlinkClick r:id="rId1" action="ppaction://hlinksldjump"/>
            </p:cNvPr>
            <p:cNvSpPr/>
            <p:nvPr/>
          </p:nvSpPr>
          <p:spPr>
            <a:xfrm>
              <a:off x="2046240" y="2511360"/>
              <a:ext cx="1741680" cy="38124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>
              <a:hlinkClick r:id="rId2" action="ppaction://hlinksldjump"/>
            </p:cNvPr>
            <p:cNvSpPr/>
            <p:nvPr/>
          </p:nvSpPr>
          <p:spPr>
            <a:xfrm>
              <a:off x="2046240" y="3073320"/>
              <a:ext cx="1741680" cy="38124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rId3" action="ppaction://hlinksldjump"/>
            </p:cNvPr>
            <p:cNvSpPr/>
            <p:nvPr/>
          </p:nvSpPr>
          <p:spPr>
            <a:xfrm>
              <a:off x="2046240" y="3606840"/>
              <a:ext cx="1741680" cy="380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46240" y="2503440"/>
              <a:ext cx="286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uman Origins in Afr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3720" y="3079800"/>
              <a:ext cx="357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umans Try to Control N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50200" y="3591000"/>
              <a:ext cx="297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b6e19"/>
                  </a:solidFill>
                  <a:latin typeface="Arial"/>
                </a:rPr>
                <a:t>CASE STUDY:</a:t>
              </a:r>
              <a:r>
                <a:rPr b="1" lang="en-US" sz="1600" spc="-1" strike="noStrike">
                  <a:solidFill>
                    <a:srgbClr val="cb6e1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vi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043000" y="2502000"/>
            <a:ext cx="1741680" cy="38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2043000" y="3081240"/>
            <a:ext cx="1741680" cy="38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2043000" y="3614760"/>
            <a:ext cx="1741680" cy="38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0560" y="1690560"/>
            <a:ext cx="34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w Civilization Deve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2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9480" y="2174760"/>
            <a:ext cx="4819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ies with larger populations arise, be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of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77680" y="3139920"/>
            <a:ext cx="5344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zed 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becom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peci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specific skill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rtis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ke goods that show skill and artis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76600" y="4689360"/>
            <a:ext cx="5702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 Instit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(governments, religion, the econom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s establish laws, maintain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es are centers for religion, govern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4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record keepers, scribes, reco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es and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cri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n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nei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system of wri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3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begin to write about city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80560" y="1690560"/>
            <a:ext cx="34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w Civilization Deve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7320" y="4006800"/>
            <a:ext cx="5537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ools and techniques make work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ronze 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s in Sumer around 3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replace copper and stone with bronz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ools,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ity of 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urished about 3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is n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 Ir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about 30,000; live in well-def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s, priests and priestesses, wealth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s, artisans, soldi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73360" y="4249800"/>
            <a:ext cx="557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gricultural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surpluses keep the economy thr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7280" y="896760"/>
            <a:ext cx="32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 in 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2640" y="1598760"/>
            <a:ext cx="39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ivilization Emerges in 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3360" y="4951440"/>
            <a:ext cx="5572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in the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es live in small houses tightly packed nea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sans make trade goods and weapon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’s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6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774800" y="218448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’s Thriving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s and servic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art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traded with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bes make records of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80200" y="1690560"/>
            <a:ext cx="34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ivilization Emerges in 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3360" y="3433680"/>
            <a:ext cx="5572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mple: Center of City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iggur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temple, is tallest, most impor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sts carry out religious rituals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67280" y="896760"/>
            <a:ext cx="32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 in 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24200" cy="21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0520" y="2486160"/>
            <a:ext cx="6723360" cy="1078200"/>
            <a:chOff x="1370520" y="2486160"/>
            <a:chExt cx="6723360" cy="107820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0520" y="2784600"/>
              <a:ext cx="6723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Human Origins in Africa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75560" y="3500280"/>
            <a:ext cx="65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 evidence shows that the earliest hum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in Africa and spread across the glo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000" y="182736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cientists Search for Human Ori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71240" y="885960"/>
            <a:ext cx="453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Human Origins in Afr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8040" y="2403360"/>
            <a:ext cx="5292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Pre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before the invention of writing, about 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77680" y="3409920"/>
            <a:ext cx="5661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tific C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aeologists study bones a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rtifa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hum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ropologists stud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a group’s way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ontologists study fossils—plant or ani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s preserved in r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4800" y="3711600"/>
            <a:ext cx="5338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covery of “Lu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ald Johanson team finds female homini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opia in 19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 3.5 million-year-old skeleton “Luc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1690560"/>
            <a:ext cx="447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cientists Search for Human Orig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6960" y="2174760"/>
            <a:ext cx="568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Footprints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y Leakey team discovers prehistoric footpr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anzania in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etoli footprints belong to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omin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creatures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upr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82720" y="1690560"/>
            <a:ext cx="447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cientists Search for Human Orig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3360" y="2187720"/>
            <a:ext cx="5338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inids Walk Uprig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ing upright helps hominids travel d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lso develop opposable thu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hominids, like Lucy, are a speci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opithe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3000" y="159876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Old Stone Age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73360" y="2174760"/>
            <a:ext cx="5940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hases of the Stone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aleolithic 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ld Stone Age) lasted from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 million to 8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olithic 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w Stone Age) lasted from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 to 3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olithic Age had cold temperatures and la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iers (Ice 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tools, fire, and language develops during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3360" y="482112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Have Use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and Mary Leakey discover 2.5 million-ye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hominid fos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Tanzania, is na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of skill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80560" y="1690560"/>
            <a:ext cx="34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Old Stone Age Beg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9400" y="2174760"/>
            <a:ext cx="55954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velop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ed about 1.6 million years ago in East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pright man, used intelligenc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ways of applying knowledge, too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ools to dig, scrape, cut; became skill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ominid to use fire; might have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ominid to migrate from Africa; moved to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3720" y="15987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Dawn of Modern 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arance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name for modern humans; had larg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nderthals and Cro-Magnons appear;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ors of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Homo sap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3360" y="3728880"/>
            <a:ext cx="541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nderthals Way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muscles and thick b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d 200,000 to 30,000 years ago in Europ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religious beliefs and performed rit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d in caves, shelters made of wood and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1:50:49Z</dcterms:modified>
  <cp:revision>807</cp:revision>
  <dc:subject/>
  <dc:title>No Slide Title</dc:title>
</cp:coreProperties>
</file>